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496-528C-4026-8361-8D00F9DE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F84-206C-4C3D-8476-14B3CA7B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BF6-17EF-479B-BF6C-9446A6E7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F8F-D4E0-4612-BC37-B034B600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774-31CE-453B-B98C-055005FF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FBD-E41B-4C76-9B1F-F49B1A94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D19-6EE3-46C2-A27E-B6B914FB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B8A-FCF7-49FA-81FE-F4A86E2F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8AE-3D90-4349-B366-C86BF39A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4AD-3F31-4007-A57A-7D05D6A0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4D0-50CC-49C0-A20B-73139DF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827-CDDF-4D53-87F7-B9A525BD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FBDE-9000-4387-8DD5-69DEB1C1A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Arrondi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Arrondi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Arrondis à la centaine prè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912 =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6798 =6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376 =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3629 =3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2286 =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397 =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6533 =6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8396 =8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Arrondis au plus prè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 4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s de m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aine de m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aine de m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5 0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5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4 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 de m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7:28:05Z</dcterms:created>
  <dc:creator>nbdoe</dc:creator>
  <dc:description/>
  <dc:language>en-US</dc:language>
  <cp:lastModifiedBy>nbdoe</cp:lastModifiedBy>
  <dcterms:modified xsi:type="dcterms:W3CDTF">2008-09-17T17:10:07Z</dcterms:modified>
  <cp:revision>3</cp:revision>
  <dc:subject/>
  <dc:title>Arrondir…</dc:title>
</cp:coreProperties>
</file>